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5D5-B584-46BF-9A53-870B2694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8B1-A7BB-4C01-8567-05075E18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423-4B99-4B2A-A56F-75537E29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06A-9417-4DF0-AE79-03EF9DE0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AF1-FF67-405D-AF41-3DD845A7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7CD-A9F0-4FEE-A36F-74F174D5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93A-55C0-4955-9010-B7661915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DCE-72E8-4B5A-8335-78767B6E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2A7-26F0-4650-B056-E64D03A4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8AC-2DC1-4D29-B9CD-1BC7CCB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5CC-09A5-4C8F-AACA-FF6349E8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508-6CC7-422E-ABDB-C789755E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2D89-AFC8-48B8-9DEC-EA5017254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85880" y="630360"/>
            <a:ext cx="7543800" cy="55623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57160" y="719280"/>
            <a:ext cx="7400880" cy="538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54000" y="804960"/>
            <a:ext cx="7209000" cy="52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652840" y="857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ertificate of Bap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652840" y="1308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This is to certify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309760" y="18493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That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298520" y="2219400"/>
            <a:ext cx="651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as Baptized in the Name of the Father, and of the Son, and of the Holy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h the intention of remitting Original Sin … by the person doing the bapt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1243080" y="2895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On the  _______  day of  _________________  in the  _______  year of Our L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1017720" y="5648400"/>
            <a:ext cx="706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According to the Rite of the Catholic Church in pure and natural w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2155680" y="388620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At 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2652840" y="3429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 ~ 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1004760" y="5075280"/>
            <a:ext cx="705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Baptized by  _____________________________         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990720" y="4419720"/>
            <a:ext cx="707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Person Baptized  _________________________          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24080" y="464832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Sig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156360" y="464832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Pri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3124080" y="530208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Sig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156360" y="5302080"/>
            <a:ext cx="8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Pri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6:38:45Z</dcterms:created>
  <dc:creator>Mike Bizzaro</dc:creator>
  <dc:description/>
  <dc:language>en-US</dc:language>
  <cp:lastModifiedBy>Michael Bizzaro</cp:lastModifiedBy>
  <cp:lastPrinted>2020-12-06T03:19:59Z</cp:lastPrinted>
  <dcterms:modified xsi:type="dcterms:W3CDTF">2020-12-06T03:22:57Z</dcterms:modified>
  <cp:revision>14</cp:revision>
  <dc:subject/>
  <dc:title>Slide 1</dc:title>
</cp:coreProperties>
</file>